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0B7-98ED-4649-8EE8-CDB39C6D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09E-A03B-43D7-9EAB-75B26ABD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19F-7E52-4538-880F-BDF3854F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03F-6D16-48E6-B276-00AE7CDF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0D8-34A7-4DC1-803C-2524ECD7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21A-BB1C-4E00-A5CA-D46F7C66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27E-C05B-48DE-9C07-8CA0C6C8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6E0-A3E6-44F5-ACC0-BACD9D6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095-C385-4E7F-ACA5-B0A0F0AA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7CC-CA27-4018-8DEC-A3B8A3D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C3A-F9E6-4C73-BE86-B8225067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A3E-E850-4D80-87A4-1B96B61E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037C-6ADA-4B93-9699-323217B4DC58}" type="slidenum">
              <a:rPr b="0" lang="sl-SI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CHAIR OF ORTHOPAEDICS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blaz.mavcic@kclj.s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e posi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kolk rotaciji"/>
          <p:cNvPicPr/>
          <p:nvPr/>
        </p:nvPicPr>
        <p:blipFill>
          <a:blip r:embed="rId1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kolk rotaciji flex"/>
          <p:cNvPicPr/>
          <p:nvPr/>
        </p:nvPicPr>
        <p:blipFill>
          <a:blip r:embed="rId2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hip/SI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 the heel is put on the opposit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ip pain signifies intraarticular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acroiliac pain signifies sacroiliac joint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1011_f2"/>
          <p:cNvPicPr/>
          <p:nvPr/>
        </p:nvPicPr>
        <p:blipFill>
          <a:blip r:embed="rId1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g length measu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 of anterior superior spines or iliac crests; evaluation of pelvic ti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absolute LLD (from ASI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relative LLD (from umbilicu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LD in 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scanom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Leg length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discrepan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solut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lativ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ength: leveling the pelvic tilt with blocks under the short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MEASUR_LEG_LENGTH"/>
          <p:cNvPicPr/>
          <p:nvPr/>
        </p:nvPicPr>
        <p:blipFill>
          <a:blip r:embed="rId1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APARENTLY_LONG_LEG"/>
          <p:cNvPicPr/>
          <p:nvPr/>
        </p:nvPicPr>
        <p:blipFill>
          <a:blip r:embed="rId2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KN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907_f1"/>
          <p:cNvPicPr/>
          <p:nvPr/>
        </p:nvPicPr>
        <p:blipFill>
          <a:blip r:embed="rId1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kne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rge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rectly under the s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rone to inju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nisci enable distensibility and at the same time sufficient s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s are the key stabili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tion of typical knee poi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ctor tube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ellar ap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sitas tibi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ibular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 collateral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 and lateral join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ertion of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 tubercle (insertion of tractus iliotibial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curvatum (= hyperextens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 rotation in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ue contracture (pas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ability to extend (act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romflexion1-1"/>
          <p:cNvPicPr/>
          <p:nvPr/>
        </p:nvPicPr>
        <p:blipFill>
          <a:blip r:embed="rId1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romflexion1-2"/>
          <p:cNvPicPr/>
          <p:nvPr/>
        </p:nvPicPr>
        <p:blipFill>
          <a:blip r:embed="rId2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omflexion1-3"/>
          <p:cNvPicPr/>
          <p:nvPr/>
        </p:nvPicPr>
        <p:blipFill>
          <a:blip r:embed="rId3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ircumferen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ircumference over patella (effus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above patella (reces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above patella (muscles – atroph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HI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Effusion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of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knee in the extended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ft hand squeezes the suprapatellar reces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With right hand the patella is pressed against the “floor” (femoral trochle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ella is floating and bumping over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xam1"/>
          <p:cNvPicPr/>
          <p:nvPr/>
        </p:nvPicPr>
        <p:blipFill>
          <a:blip r:embed="rId1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nee 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chanical axis in stance:  femoral head center, knee center, ankl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screpancy: valgus, va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Women have larger valgus (wider pelv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hildren first have varus, then valgus, eventually n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osteo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Laxity in the frontal pla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xity of the knee in extension (indicating lesion of the anterior cruciate ligament) or only in 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lgus torque (X):  laxity of the medi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rus torque (O):  laxity of the later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907_f4"/>
          <p:cNvPicPr/>
          <p:nvPr/>
        </p:nvPicPr>
        <p:blipFill>
          <a:blip r:embed="rId1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An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Displacement of tibia </a:t>
            </a:r>
            <a:br>
              <a:rPr sz="2400"/>
            </a:b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pinstabanteriordrawer1-1"/>
          <p:cNvPicPr/>
          <p:nvPr/>
        </p:nvPicPr>
        <p:blipFill>
          <a:blip r:embed="rId1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ft hand fixates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ight hand draws tibia 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apinstablachman1-1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907_f3"/>
          <p:cNvPicPr/>
          <p:nvPr/>
        </p:nvPicPr>
        <p:blipFill>
          <a:blip r:embed="rId2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pinstabposteriordrawer2-1"/>
          <p:cNvPicPr/>
          <p:nvPr/>
        </p:nvPicPr>
        <p:blipFill>
          <a:blip r:embed="rId1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 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os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Pos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anslation of tibia pos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milar to anterior drawer test: from reposition to sublux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teral inspection (conto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apinstabposteriordrawer2-2"/>
          <p:cNvPicPr/>
          <p:nvPr/>
        </p:nvPicPr>
        <p:blipFill>
          <a:blip r:embed="rId2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tion in flexion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c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ingers on the join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/extension + ro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lpable or visible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inful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6340_2"/>
          <p:cNvPicPr/>
          <p:nvPr/>
        </p:nvPicPr>
        <p:blipFill>
          <a:blip r:embed="rId1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xam50"/>
          <p:cNvPicPr/>
          <p:nvPr/>
        </p:nvPicPr>
        <p:blipFill>
          <a:blip r:embed="rId2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t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largest sesamoid b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mproves efficacy of kne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rior knee pain problems, patellar in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907_f2"/>
          <p:cNvPicPr/>
          <p:nvPr/>
        </p:nvPicPr>
        <p:blipFill>
          <a:blip r:embed="rId1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hondropathia patella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nee ext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The patella is pressed down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Quadriceps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Comparison right/l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tes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extens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flex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tion of typical points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in the hip reg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reater trochanter (top, posterior bor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iatic nerve out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guinal ligament and pulse of the femoral art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sser tro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c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SHOULD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igure 1A"/>
          <p:cNvPicPr/>
          <p:nvPr/>
        </p:nvPicPr>
        <p:blipFill>
          <a:blip r:embed="rId1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670120" y="-14054040"/>
          <a:ext cx="208080" cy="34931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641160">
                <a:tc>
                  <a:txBody>
                    <a:bodyPr tIns="46080" bIns="4608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80520">
                <a:tc>
                  <a:txBody>
                    <a:bodyPr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13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" descr="{short description of image}"/>
          <p:cNvPicPr/>
          <p:nvPr/>
        </p:nvPicPr>
        <p:blipFill>
          <a:blip r:embed="rId1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igure 1B"/>
          <p:cNvPicPr/>
          <p:nvPr/>
        </p:nvPicPr>
        <p:blipFill>
          <a:blip r:embed="rId2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Figure 1B"/>
          <p:cNvPicPr/>
          <p:nvPr/>
        </p:nvPicPr>
        <p:blipFill>
          <a:blip r:embed="rId3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y cu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cromioclavik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horacic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clavic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 between clavicula and scap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apulohumeral rhyth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 of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 lux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when pressing against the wall (palsy n. thoracicus longus or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phy of deltoid, supraspin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xation (anterior, posteri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cromioclavikular syndesmolysis (“piano ke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rama gibljivost1"/>
          <p:cNvPicPr/>
          <p:nvPr/>
        </p:nvPicPr>
        <p:blipFill>
          <a:blip r:embed="rId1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cromioclavicular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rac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M (ac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 (in adduction or abduction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sitting, doctor 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rm between abduction and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elevates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at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Figure 5"/>
          <p:cNvPicPr/>
          <p:nvPr/>
        </p:nvPicPr>
        <p:blipFill>
          <a:blip r:embed="rId1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 modification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ng impingment of supraspinatus under CA liga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Figure 6"/>
          <p:cNvPicPr/>
          <p:nvPr/>
        </p:nvPicPr>
        <p:blipFill>
          <a:blip r:embed="rId1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of supraspinat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abduction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xion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ximal in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ient resists downward pressure on the elbow, exerted by the do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cromioclavicular)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ction (piano key at syndesmo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Cross-arm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criteria (Rockwood classificait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Figure 7"/>
          <p:cNvPicPr/>
          <p:nvPr/>
        </p:nvPicPr>
        <p:blipFill>
          <a:blip r:embed="rId1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7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nge of motion (RO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otation measurements are done supine (in hip flexion) or prone (in hip extension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kolk rotaciji flex"/>
          <p:cNvPicPr/>
          <p:nvPr/>
        </p:nvPicPr>
        <p:blipFill>
          <a:blip r:embed="rId1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kolk rotaciji"/>
          <p:cNvPicPr/>
          <p:nvPr/>
        </p:nvPicPr>
        <p:blipFill>
          <a:blip r:embed="rId2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 over sul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patient flexes and supinates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rotates lower arm inwards and resists sup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in the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Figure 9"/>
          <p:cNvPicPr/>
          <p:nvPr/>
        </p:nvPicPr>
        <p:blipFill>
          <a:blip r:embed="rId1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lbow flexion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lower arm in supination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, the doctor resists further shoulder flexion and palpates biceps in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68360" y="401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an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c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aminer put stress on proximal humerus into forward direction; simultaneously with 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, forward translation of the humeral head – </a:t>
            </a:r>
            <a:r>
              <a:rPr b="0" lang="sl-SI" sz="2800" spc="-1" strike="noStrike">
                <a:solidFill>
                  <a:srgbClr val="ffff00"/>
                </a:solidFill>
                <a:latin typeface="Tahoma"/>
              </a:rPr>
              <a:t>sign of inst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Figure 8"/>
          <p:cNvPicPr/>
          <p:nvPr/>
        </p:nvPicPr>
        <p:blipFill>
          <a:blip r:embed="rId1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pos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ction, elbow flexed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xaminer applies pressure on proximal humerus into posterior dir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inf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„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cus sign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inferior glenohumeral instability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When force applied into downward direction – gap laterally below acromion can be seen (can be normal in young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Figure 10"/>
          <p:cNvPicPr/>
          <p:nvPr/>
        </p:nvPicPr>
        <p:blipFill>
          <a:blip r:embed="rId1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tes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97000"/>
          <a:ext cx="8229600" cy="50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merus anteflex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crom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internal ro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raspin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 abduction - Lower the arm to the si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tor cuff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exion 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 joint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ternal rotation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lcus sig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wnward direction st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 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oulder flexion, external rotation, full elbow extension</a:t>
                      </a:r>
                      <a:r>
                        <a:rPr b="0" lang="sl-SI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earm supination; manual re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ceps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:  Differential diagn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Rotator cuff path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stability (anterior, posterior, multidire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iceps tendinitis, in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steonecr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Glenohumeral joint osteo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alcific shoulder tend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prascapular nerve impin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chial plexus pal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horacic outlet syndr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ervical radiculopaty – nerve root entra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: the Thomas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of the opposite hip obliterates lumbar lordosis and manifests the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xion contracture, compensated by extensive lumbar lord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SHORT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LONG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 hip osteoarthritis most often flexion contracture, adduction contracture and external rotational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“straightened” (pelvis must lie perpendicularly to the examination t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ree exami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ixation of pelv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2109_f7"/>
          <p:cNvPicPr/>
          <p:nvPr/>
        </p:nvPicPr>
        <p:blipFill>
          <a:blip r:embed="rId1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e Thomas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o unmask 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thomas1"/>
          <p:cNvPicPr/>
          <p:nvPr/>
        </p:nvPicPr>
        <p:blipFill>
          <a:blip r:embed="rId1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homastest"/>
          <p:cNvPicPr/>
          <p:nvPr/>
        </p:nvPicPr>
        <p:blipFill>
          <a:blip r:embed="rId2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c0600"/>
                </a:solidFill>
                <a:latin typeface="Tahoma"/>
              </a:rPr>
              <a:t>WRONG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adductionofhip"/>
          <p:cNvPicPr/>
          <p:nvPr/>
        </p:nvPicPr>
        <p:blipFill>
          <a:blip r:embed="rId1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bduction Of Hip"/>
          <p:cNvPicPr/>
          <p:nvPr/>
        </p:nvPicPr>
        <p:blipFill>
          <a:blip r:embed="rId2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evaluation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cannot be seen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version of the femoral neck can be evaluated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anteverzija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varusvalgus"/>
          <p:cNvPicPr/>
          <p:nvPr/>
        </p:nvPicPr>
        <p:blipFill>
          <a:blip r:embed="rId2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ortop39</cp:lastModifiedBy>
  <dcterms:modified xsi:type="dcterms:W3CDTF">2020-12-10T09:24:50Z</dcterms:modified>
  <cp:revision>109</cp:revision>
  <dc:subject/>
  <dc:title>VAJE IZ ORTOPEDIJE</dc:title>
</cp:coreProperties>
</file>